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F42-BD65-43C1-A13E-F308A162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B41-6CAE-409E-A1B6-5946E69E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915-0C7F-41C3-AFEC-D1A85A1F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541-FA82-4AF5-9193-29ED834A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724-31E5-417C-A54E-A51799D7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0D2-414C-4BED-B355-E2083F04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C0B-5D60-4E9E-BF8E-442DAEE9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CCB-D9FF-4334-AD5E-927D77C6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3A9-0A13-4091-A3A1-A5C94527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D07-9D83-49D3-A509-AA5E76AB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1D8-FA84-4425-9A88-9E820BC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FEA-598E-48B9-8583-8820B21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20C4-1123-4AAC-9B22-AEB0FEEA7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238400" cy="1486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" y="2565360"/>
            <a:ext cx="87822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angered and Threatened Species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ehicle is being used to survey the Federally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tened Piping and Snowy Plovers on the upper Tex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st under Texas Parks and Wildlife contact #18446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Six, Endangered Species Act of the US Fish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lif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24360" y="476280"/>
            <a:ext cx="16207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2:03:42Z</dcterms:created>
  <dc:creator>John Arvin</dc:creator>
  <dc:description/>
  <dc:language>en-US</dc:language>
  <cp:lastModifiedBy>John Arvin</cp:lastModifiedBy>
  <dcterms:modified xsi:type="dcterms:W3CDTF">2008-01-29T22:28:00Z</dcterms:modified>
  <cp:revision>3</cp:revision>
  <dc:subject/>
  <dc:title>Slide 1</dc:title>
</cp:coreProperties>
</file>